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C54-EB75-47F1-9818-3D82F403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ABA-AD03-4B86-90F6-2DC91C32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194-8D51-4CA2-A8DE-DC71AB73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051-2535-4370-930D-08211450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5F5-2133-485F-B768-E73CD65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CD4-FFD9-4DC2-802D-BF7F54A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5A8-3963-4582-AF1D-802A6BBC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96B-318B-44A5-B1F4-53DF1EC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DD0-2BF5-482A-B13D-FFB53665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DA8-DDD4-447C-9AC5-D18784D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6B7-A1F6-4A58-9A92-6082748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552-4770-4A1F-9A34-E1B7DBA0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FFC6-7E08-4585-9CC3-EEBE9BC50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7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solidFill>
            <a:srgbClr val="0000ff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w Approaches to Chemoprevention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Hormone-Dependent Canc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L. McCormick, Ph.D., D.A.B.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IT Research In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hicago, Illin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mographics of Prostate Canc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malignancy in American men; ACS estimates 180,400 new cases in USA (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ing cause of cancer death in American men aged 55 or older; ACS estimates 31,900 prostate cancer deaths in the USA (20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relationship between age and the incidence of  histologically detectable prostate malign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atural History of Prostate Canc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rial autopsy studies estima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30% incidence of microscopic prostate cancer in American men &gt; 50 years of 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ar 100% incidence of microscopic prostate cancer in American men &gt; 80 years of 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 most men, prostate carcinogenesis is an indolent process; a very long latent period is required for microscopic lesions to develop into clinically detectable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k Factors for Prostate Canc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enetics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tate cancer in father or a brother  is associated with a two-fold increase in ris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ndrogenic Hormones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tate cancer risk is near zero in men with undescended testes, or who have undergone surgical orchiectom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ge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merican men age from 20 to 50 to 80, their incidence of microscopic prostate cancer increases from near zero to ~30% to ~100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Can a Man Reduc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s Risk of Prostate Cance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blem:  Prostate cancer has a genetic compon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:  Choose different parents.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blem:  Prostate cancer risk is associated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duction of androgenic horm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:  Prophylactic orchiectom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oblem:  Prostate cancer risk is age-associ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:  Don’t get 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One solution is impossible and the other two are  undesirable; novel approaches are requi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38862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emoprevention may decrease morbidity and mortality associated with prostate cancer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44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gram Goals --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ort to Mid-Ter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agents or combinations of agents that merit consideration for evaluation in clinical trials for prostate cancer chemo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onsideration of structure-activity relationships and mechanisms of action, focus strategies for drug development for prostate cancer chemo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pharmacologic, nutritional, or endocrine manipulations that will inhibit, suppress, or delay prostate cancer induction in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chemopreventive agents as mechanistic probes, identify critical regulatory pathways through which prostate carcinogenesis may be mod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04920"/>
            <a:ext cx="7848720" cy="1447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gram Goals --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peri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istar-Unilever (Cpb:Wu) R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etreatment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ily gavage doses of antiandrogen for 20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subcutaneous injection of testosterone propion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rcinogen D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le i.v. injection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methyl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nitrosourea (MN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st-treatment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cutaneous implants of silastic capsules containing testosterone; changed at 6 month inter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295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NU/Wistar-Unilever Rat Prostate Canc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eoplasms develop in 12 to 13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mbles latency of human disease (1/2 of life sp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latency provides opportunity for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ancers develop with site specificity for the dorsolateral/anterior pro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copic diagnosis permits specific determination of tissue of ori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incidence of seminal vesicle tum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Very low incidence of cancer in other t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rcinogenesis in the MNU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/U Rat Model is Androgen-Depend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471680"/>
          <a:ext cx="8229600" cy="55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71680"/>
                    <a:ext cx="822960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incipal Collabor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IT Research In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iam D. Johnson, Ph.D., D.A.B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V.N. Rao, D.Sc., D.A.B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ew York University School of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arten C. Bosland, D.V.Sc.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ational Cancer Instit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nald A. Lubet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non E. Steele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y J. Kelloff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133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moprevention of Experimental Prostate Cancer by Retin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moprevention of Prostate Carcinogenesis by Retinoi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-(4-hydroxyphenyl)-all-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trans-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tinamide (4-HP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s carcinogenesis in the rat mammary gland, rat and mouse urinary bladder, and mouse 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oxic than “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eneration” retino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and for the nuclear Retinoic Acid Receptor (R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9-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cis-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tinoic ac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s carcinogenesis in the rat mammary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induce classic “retinoid-like” toxic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-agonist for both RAR and Retinoid X Receptor (RX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4-HPR on Prosta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cinogenesis in W-U Ra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14400" y="1676520"/>
          <a:ext cx="72388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238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9-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Retinoic Aci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Prostate Carcinogenesis in W-U Ra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14400" y="16002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819520" y="2895480"/>
          <a:ext cx="304560" cy="58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95480"/>
                    <a:ext cx="304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48120" y="3581280"/>
          <a:ext cx="304560" cy="58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581280"/>
                    <a:ext cx="304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4267080"/>
          <a:ext cx="304560" cy="584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4267080"/>
                    <a:ext cx="304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91120" y="4191120"/>
          <a:ext cx="304560" cy="583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91120"/>
                    <a:ext cx="304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6002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e Cancer Chemoprevention by Delayed Administration of 9-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Retinoic Acid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Adenocarcinoma + Carcinoma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n situ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3962520"/>
            <a:ext cx="228600" cy="22860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1905120"/>
          <a:ext cx="76201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201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733920" y="3886200"/>
          <a:ext cx="304560" cy="7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88620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76920" y="5105520"/>
          <a:ext cx="30456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105520"/>
                    <a:ext cx="3045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191120" y="3657600"/>
          <a:ext cx="304560" cy="70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365760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971800" y="2514600"/>
          <a:ext cx="304920" cy="700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251460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743200" y="2666880"/>
          <a:ext cx="304920" cy="700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266688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90920" y="2895480"/>
          <a:ext cx="304560" cy="7002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289548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tinoids and Prostate Carcinogenesi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fficacy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dministered at its MTD, 4-HPR conferred no protection against prostate carcinogene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doses of 9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s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 conferred protection against prostate carcinogenesis, yet induced no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-c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 retained partial efficacy when administration was delayed, suggesting that this retinoid may inhibit  later stages of prostate cancer promotion or prog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A merits consideration for study in clinical trials for prostate cancer chemoprevention.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tinoids and Prostate Carcinogenesi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chanistic Impl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or 4-HPR are consistent with results of the ABC trial, in which </a:t>
            </a:r>
            <a:r>
              <a:rPr b="0" lang="en-US" sz="28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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arotene (20 mg/day) did not reduce prostate cancer incidence in a population of 29,000 male smo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parative activity of 9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s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 and 4-HPR suggest that ligands of RXR, but not RAR, may be effective agents for prostate cancer preven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results suggest that future development of new retinoids for prostate cancer chemoprevention should be focused on RAR/RXR pan-agonists or pure RXR agonist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LGD 1069 [targretin]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133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enium, Vitamin E, and Chemoprevention of Experimental Prostate Canc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nium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Selenomethionine)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ncer Preven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 range of chemopreventive activity in animal models (mammary gland, sk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r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t al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ported a 2/3 reduction in prostate cancer incidence in men fed Se-enriched yeast  for 4.5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population = 975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dose = 200 </a:t>
            </a:r>
            <a:r>
              <a:rPr b="0" lang="en-US" sz="32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 cases versus 35 cases in placebo group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itamin E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ncer Preven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dministered alone ==&gt; minimal to modest chemopreventive activity in other cancer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dministered in combination with Se ==&gt; increases the chemopreventive efficacy of 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study of 29,000 male smokers (the Alpha-Tocopherol Beta-Carotene Cancer Prevention Study), administration of α-tocopherol at 50 mg per day decreased prostate cancer incidence by 32% and prostate cancer mortality by 4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ncer Chemo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hibition or delay of the development of invasive malignancy achieved through pharmacologic, endocrine, or nutritional interventions prior to and/or during the preneoplastic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nium, Vitamin E,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ncer Preven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rge scale clinical trial (the SELECT trial) has been proposed to evaluate the activity of Se plus vitamin E in prostate cancer chemopreven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stimated duration:  12 to 14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stimated annual budget:  ~ $11 to 15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estimated budget:  ~ $140 to $18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he SELECT trial has been designed in the  absence of preclinical efficac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ts val="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predict the outcome of the SELECT trial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Selenomethionin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Prostate Carcinoge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523880"/>
          <a:ext cx="73915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3915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WP Greek Century"/>
                <a:ea typeface="WP Greek Century"/>
              </a:rPr>
              <a:t>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Tocopherol (Vitamin E)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Prostate Carcinoge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523880"/>
          <a:ext cx="746748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4674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Influence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-Selenomethionine + </a:t>
            </a:r>
            <a:br>
              <a:rPr sz="3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L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400" spc="-1" strike="noStrike">
                <a:solidFill>
                  <a:srgbClr val="ffff00"/>
                </a:solidFill>
                <a:latin typeface="WP Greek Century"/>
                <a:ea typeface="WP Greek Century"/>
              </a:rPr>
              <a:t>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-Tocopherol on Prostate Carcinogenesi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95280" y="1371600"/>
          <a:ext cx="70866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nium, Vitamin E,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ncer Preven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dministered as single agents, neither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Selenomethionine n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ocopherol conferred any protection against prostate cancer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dministered together, the combination o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Selenomethionine +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WP Greek Century"/>
                <a:ea typeface="WP Greek Century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ocopherol also failed to demonstrate chemopreventive activ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nium, Vitamin E,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state Cancer Preven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posal is currently being considered to conduct a large-scale clinical trial (the SELECT trial) to determine the efficacy of Selenium + Vitamin E in prostate cancer chemopreven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LECT trial will require 12 to 14 years to complete, and will cost $140 to $180 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2286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moprevention of Experimental Prostate Cancer by Dehydroepiandroster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hydroepiandrosterone (DHEA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-ketosteroid produced in the adrenal 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ma DHEA levels decline with age (</a:t>
            </a:r>
            <a:r>
              <a:rPr b="1" lang="en-US" sz="3200" spc="-1" strike="noStrike">
                <a:solidFill>
                  <a:srgbClr val="ffffff"/>
                </a:solidFill>
                <a:latin typeface="Bookshelf Symbol 3"/>
                <a:ea typeface="Bookshelf Symbol 3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Bookshelf Symbol 3"/>
                <a:ea typeface="Bookshelf Symbol 3"/>
              </a:rPr>
              <a:t>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 inhibitor of carcinogenesis in several  model systems, including skin, mammary gland, lung, thyroid, and l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sentially non-toxic when administered as a dietary supp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DHEA on Prostate Carcinogenesis (macroscopic cancer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81480" y="3962520"/>
          <a:ext cx="3049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962520"/>
                    <a:ext cx="304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62720" y="4267080"/>
          <a:ext cx="304560" cy="7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26708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14400" y="1630440"/>
          <a:ext cx="7238880" cy="5072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630440"/>
                    <a:ext cx="723888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743200" y="3200400"/>
          <a:ext cx="304920" cy="70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20040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971800" y="3429000"/>
          <a:ext cx="304920" cy="700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42900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29200" y="3200400"/>
          <a:ext cx="304920" cy="700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320040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257800" y="3657600"/>
          <a:ext cx="304920" cy="7002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65760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295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e Cancer Chemoprevention by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Delayed Administration of DH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523880"/>
          <a:ext cx="7772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514600" y="2666880"/>
          <a:ext cx="304920" cy="70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6688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666880" y="2590920"/>
          <a:ext cx="3049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304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657600" y="3581280"/>
          <a:ext cx="304920" cy="70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3049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91120" y="3429000"/>
          <a:ext cx="304560" cy="700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342900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sociation of Cancer Chemoprevention from Cancer Chemotherap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emporal Dissociation -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opreventive agents act prior to the development of clinically apparent cancer, rather than by eradicating invasive neoplastic le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echanistic Dissociation -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mopreventive agents generally act on different biochemical and molecular targets than do chemotherapeutic dru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moprevention of Prostate Carcinogenesis by DHE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dministered beginning one week prior to MNU, DHEA conferred statistically significant protection against prostate cancer inducti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HEA retained essentially all of its activity when the initiation of exposure was delayed until 20 or 40 weeks post-carcinogen.  This suggests that DHEA acts primarily at later stages of prostate cancer promotion or progr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moprevention of Prostate Carcinogenesis by DHE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chanism of DHEA action as a chemopreventive agent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DHEA inhibit prostate carcinogenesis through a simple hormonal (estrogenic) mechanism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tential Mechanisms of DHE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ction in the Prosta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-threshold tox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o influence on animal survi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o evidence of toxicity observable via clinical 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o gross path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pecific inhibition of carcinogenesis via effects on body weight g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inimal effect on body weight g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rogenic activ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HEA Is a Potent Inhibitor of Rat Mammary Carcinoge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HEA Level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% Cancer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Canc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mg/kg diet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cidenc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per R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-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70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2.5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HEA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8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 0.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8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2.6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HEA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4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     0.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271240" y="4991040"/>
          <a:ext cx="334800" cy="38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240" y="4991040"/>
                    <a:ext cx="3348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moprevention of Hormone-Dependent Carcinogenesis by DHE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considered unlikely that DHEA action is mediated through a simple endocrine mechanis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HEA inhibits androgen-dependent carcinogenesis in the rat prost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HEA inhibits estrogen-dependent carcinogenesis in the rat mammary g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likely that DHEA action in endocrine-sensitive tissues is effected through  hormone-dependent and -independent mechan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moprevention of Hormone-Dependent Carcinogenesis by DHE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HEA is unlikely to be used clinically as a result of concerns related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ossible androgenicity in fe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ossible hormonal activity in males (estrogenicity or androgenic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alogs of DHEA be developed which retain chemopreventive efficacy without endocrine activity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HEA Analog 8354 (Fluasterone)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inated analog of DHEA developed by Schwartz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t al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Temple Univers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chemopreventive agent in mouse skin and rat mammary 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ndrogenic in gonadectomized male rats; less androgenic than D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ghtly estrogenic is ovariectomized female r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in Phase I clinical trials for diabete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luence of DHEA Analog 8354 (Fluasterone) on Prostate Carcinoge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1523880"/>
          <a:ext cx="73915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391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914400" y="1523880"/>
          <a:ext cx="739152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523880"/>
                    <a:ext cx="7391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914400" y="1523880"/>
          <a:ext cx="739152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523880"/>
                    <a:ext cx="7391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038480" y="3733920"/>
          <a:ext cx="304920" cy="699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733920"/>
                    <a:ext cx="3049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733920" y="3809880"/>
          <a:ext cx="304560" cy="700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80988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819520" y="3200400"/>
          <a:ext cx="304560" cy="700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200400"/>
                    <a:ext cx="3045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590920" y="3276720"/>
          <a:ext cx="304560" cy="699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3276720"/>
                    <a:ext cx="3045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HEA Analog 8354 (Fluasterone)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 inhibitor of rat prostate carcinogenesis; more active than DHEA at equivalent d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es chemopreventive activity with minimal androgenic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ed more likely than DHEA to gain clinical accep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ggests that much or all of the chemopreventive activity of DHEA may be effected by non-hormonal mechan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2895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the current status of the  preclinical development of agents  for chemoprevention of prostate carcinogenesi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Why Prevention?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nical Implications of Preclinical Dat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tin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active agent identified (9-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etinoic aci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putative molecular target identified (RX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elenium + Vitamin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hemopreventive activity when administered either alone or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reclinical rationale to support clinical 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HEA and analo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active agents identified (DHEA, fluaster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hanisms may involve complex interaction of hormone-dependent and -independent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rgets for Clinical Chemopreventio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hemopreventive agents now exist that combine efficacy in </a:t>
            </a:r>
            <a:r>
              <a:rPr b="0" i="1" lang="en-US" sz="3500" spc="-1" strike="noStrike">
                <a:solidFill>
                  <a:srgbClr val="ffffff"/>
                </a:solidFill>
                <a:latin typeface="Times New Roman"/>
              </a:rPr>
              <a:t>in vivo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preclinical models with acceptable levels of toxicity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onsidering real-world logistic factors: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9900"/>
                </a:solidFill>
                <a:latin typeface="Times New Roman"/>
              </a:rPr>
              <a:t>budgetary limitation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9900"/>
                </a:solidFill>
                <a:latin typeface="Times New Roman"/>
              </a:rPr>
              <a:t>challenges in patient accrual for clinical chemoprevention trial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houldn’t our evolving clinical strategies for prostate cancer chemoprevention be based on the greatest likelihood of success?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1295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Can an Individual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duce His/Her Risk of Canc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n’t smoke or chew tobac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-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 smoke or chew -- don’t sta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-  if you do smoke or chew -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quit if you c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reduce if you can’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Eat your fruit and vegeta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Everything else in mo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sy on the alcoho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- easy on the Krispy Kremes, Big Macs, and f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s of Chemo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nhibition of Carcinogen-Target Cell Interac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ion of Metabolic Activation of Procarcinog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venging/Inactivation of Reactive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ment of Detoxification and Excr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zation of DNA Repair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nhibition of Post-Carcinogen Tumor Develop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 of Cell Prolif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 of Cell Differen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ction of Apoptosis of Transforme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s of Chemo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nhibition of Progression from Benign to Maligna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zation or reversal of  benign phen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ibition of conversion from benign to malig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bilization or reversal of pre-invasive maligna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ression of neovascula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Stabilization or growth inhibition of pre-invasive malignancy (carcinoma </a:t>
            </a:r>
            <a:r>
              <a:rPr b="0" i="1" lang="en-US" sz="3000" spc="-1" strike="noStrike">
                <a:solidFill>
                  <a:srgbClr val="00ffff"/>
                </a:solidFill>
                <a:latin typeface="Times New Roman"/>
              </a:rPr>
              <a:t>in situ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or intra-epithelial neoplasia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981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presentative Biochemic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Molecular Targets for Chemopreventive Drug Develop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achidonic Acid Metabo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lyamine Metabolis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cogene/Tumor Suppressor Gene Expr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eroid Receptor Superfamily Gene Expr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mone-Receptor Bind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tein Kinase C Activ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giogenesis Pathway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133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emoprevention of Experimental Prostate Cancer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9:09:50Z</dcterms:created>
  <dc:creator>Default_Setup</dc:creator>
  <dc:description/>
  <dc:language>en-US</dc:language>
  <cp:lastModifiedBy>Default_Setup</cp:lastModifiedBy>
  <cp:lastPrinted>2000-04-24T18:38:53Z</cp:lastPrinted>
  <dcterms:modified xsi:type="dcterms:W3CDTF">2001-01-26T17:57:45Z</dcterms:modified>
  <cp:revision>276</cp:revision>
  <dc:subject/>
  <dc:title>New Approaches to Chemoprevention of   Hormone-Dependent Cancer</dc:title>
</cp:coreProperties>
</file>